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media/image6.wmf" ContentType="image/x-wmf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5AF-4E59-4426-918D-6D82D60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24B-C26F-4386-9C4D-2204D794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778-8BB8-40E8-8E49-F1EAC4BB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919-7B57-4B68-9EEE-16EBBC6C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BDDA-CF0A-49CF-8E4C-0CB602B3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783C-CE97-4B47-9595-277D2A1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2DC4-CF79-4DCE-8180-21904501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4577-2203-4146-931B-23EB6E7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CAF0-3F90-49B5-B576-2F535509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4FC-A3FF-416B-9DFA-71711068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FFD5-3B22-4483-A119-29E8D2ED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7C8-D143-48B1-8B91-BEA78859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BFB5-8C7F-410E-A75C-504D86F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C801-8F24-4117-B4F7-22154402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2197-B8AC-4C75-BF64-978FF45A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67D7-7E47-4547-A019-D71142B4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BA4F-3F82-4A9D-A87C-990D80DB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696-F979-4EB6-8101-7EE986D2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29A-53CE-4F93-B8EF-8095CE19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912-4941-4287-AE98-0064CDDA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49F-7F1E-4E90-BAA0-3073A853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1EE-6BD1-4D88-8CF4-D3661DC0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918-1EEB-41A9-9B89-17396A8D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D66-7D3E-466E-9EDD-FD9D3953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31DD-8EEC-4EC5-B00C-A373899139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E6F0-FC30-45E2-BB2E-F41524CA49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images.google.com/imgres?imgurl=http://www.hooverfence.com/sports/scoreboards/images/scoreboard-mp3457.jpg&amp;imgrefurl=http://www.hooverfence.com/sports/scoreboards/stationary.htm&amp;h=206&amp;w=275&amp;sz=33&amp;hl=en&amp;start=2&amp;tbnid=o3plMlWQXZXNTM:&amp;tbnh=85&amp;tbnw=114&amp;prev=/images%3Fq%3Dscoreboard%26gbv%3D2%26svnum%3D10%26hl%3Den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en/thumb/d/d3/Taco_Bell_logo.svg/493px-Taco_Bell_logo.svg.png&amp;imgrefurl=http://en.wikipedia.org/wiki/Image:Taco_Bell_logo.svg&amp;h=599&amp;w=493&amp;sz=54&amp;hl=en&amp;start=9&amp;tbnid=r4L4Wv8UBmmtpM:&amp;tbnh=135&amp;tbnw=111&amp;prev=/images%3Fq%3Dtaco%2Bbell%2Blogo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__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Clase 7IM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22 de septiembre del 2011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4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continuamos el repaso de los verb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e 2 oraciones originales con cada verbos (1 singular, 1 plur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rrer (to ru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er (to rea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ivir (to li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er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1230480" cy="1160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057400"/>
            <a:ext cx="3962520" cy="2954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705720" y="914400"/>
            <a:ext cx="14032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0000"/>
                </a:solidFill>
                <a:latin typeface="Comic Sans MS"/>
              </a:rPr>
              <a:t>Stem-changing verbs give their stems the boot!</a:t>
            </a:r>
            <a:endParaRPr b="0" lang="en-US" sz="6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284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Quer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530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720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324480"/>
            <a:ext cx="24382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Verb ending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909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a verb ends in –ar, you add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m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Verb ending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a verb ends in –er, you ad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a verb ends in –ir, you ad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m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, since “querer” ends en “er” (quer</a:t>
            </a:r>
            <a:r>
              <a:rPr b="0" lang="en-US" sz="3600" spc="-1" strike="noStrike">
                <a:solidFill>
                  <a:srgbClr val="cc0000"/>
                </a:solidFill>
                <a:latin typeface="Verdana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), which endings will we add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“er” ending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Quer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5720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324480"/>
            <a:ext cx="24382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                                                         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, only the 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 the 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re are two e’s in the stem,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e always chan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f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762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Verdana"/>
              </a:rPr>
              <a:t>Now, let’s add our stem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let’s change the 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, e can change to ie only within the boot. This means the nosotros/vosotros forms never change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Quer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479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</a:t>
                      </a:r>
                      <a:r>
                        <a:rPr b="0" lang="en-US" sz="3200" spc="-1" strike="noStrike" u="sng">
                          <a:solidFill>
                            <a:srgbClr val="00cc00"/>
                          </a:solidFill>
                          <a:uFillTx/>
                          <a:latin typeface="Impact"/>
                        </a:rPr>
                        <a:t>i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</a:t>
                      </a:r>
                      <a:r>
                        <a:rPr b="0" lang="en-US" sz="3200" spc="-1" strike="noStrike" u="sng">
                          <a:solidFill>
                            <a:srgbClr val="00cc00"/>
                          </a:solidFill>
                          <a:uFillTx/>
                          <a:latin typeface="Impact"/>
                        </a:rPr>
                        <a:t>i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</a:t>
                      </a:r>
                      <a:r>
                        <a:rPr b="0" lang="en-US" sz="3200" spc="-1" strike="noStrike" u="sng">
                          <a:solidFill>
                            <a:srgbClr val="00cc00"/>
                          </a:solidFill>
                          <a:uFillTx/>
                          <a:latin typeface="Impact"/>
                        </a:rPr>
                        <a:t>i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Qu</a:t>
                      </a:r>
                      <a:r>
                        <a:rPr b="0" lang="en-US" sz="3200" spc="-1" strike="noStrike" u="sng">
                          <a:solidFill>
                            <a:srgbClr val="00cc00"/>
                          </a:solidFill>
                          <a:uFillTx/>
                          <a:latin typeface="Impact"/>
                        </a:rPr>
                        <a:t>i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45720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324480"/>
            <a:ext cx="24382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Practica: 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onjugate the regular following verb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1600200"/>
          <a:ext cx="8686440" cy="4546440"/>
        </p:xfrm>
        <a:graphic>
          <a:graphicData uri="http://schemas.openxmlformats.org/drawingml/2006/table">
            <a:tbl>
              <a:tblPr/>
              <a:tblGrid>
                <a:gridCol w="3213720"/>
                <a:gridCol w="5472720"/>
              </a:tblGrid>
              <a:tr h="68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                       </a:t>
                      </a: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Correr         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leer          </a:t>
                      </a: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  viv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 flipV="1">
            <a:off x="5410080" y="1599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50532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286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2286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238880" y="1599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15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The u→ue and o→ue verbs work the same way.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ñ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43200" y="1599840"/>
            <a:ext cx="594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be able to (c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slee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dr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turn (to a pl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turn (a th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First, find the o or u in the stem that is going to change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mi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ñ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v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v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Then, decide which verb endings you will use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jug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m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od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em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JUGA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j</a:t>
                      </a:r>
                      <a:r>
                        <a:rPr b="0" lang="en-US" sz="3200" spc="-1" strike="noStrike" u="sng">
                          <a:solidFill>
                            <a:srgbClr val="008000"/>
                          </a:solidFill>
                          <a:uFillTx/>
                          <a:latin typeface="Impact"/>
                        </a:rPr>
                        <a:t>u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j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Impact"/>
                        </a:rPr>
                        <a:t>u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j</a:t>
                      </a:r>
                      <a:r>
                        <a:rPr b="0" lang="en-US" sz="3200" spc="-1" strike="noStrike" u="sng">
                          <a:solidFill>
                            <a:srgbClr val="008000"/>
                          </a:solidFill>
                          <a:uFillTx/>
                          <a:latin typeface="Impact"/>
                        </a:rPr>
                        <a:t>u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ju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j</a:t>
                      </a:r>
                      <a:r>
                        <a:rPr b="0" lang="en-US" sz="3200" spc="-1" strike="noStrike" u="sng">
                          <a:solidFill>
                            <a:srgbClr val="008000"/>
                          </a:solidFill>
                          <a:uFillTx/>
                          <a:latin typeface="Impact"/>
                        </a:rPr>
                        <a:t>u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j</a:t>
                      </a:r>
                      <a:r>
                        <a:rPr b="0" lang="en-US" sz="3200" spc="-1" strike="noStrike" u="sng">
                          <a:solidFill>
                            <a:srgbClr val="008000"/>
                          </a:solidFill>
                          <a:uFillTx/>
                          <a:latin typeface="Impact"/>
                        </a:rPr>
                        <a:t>u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5720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6324480"/>
            <a:ext cx="24382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___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___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___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___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762120" y="16002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Impact"/>
              </a:rPr>
              <a:t>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048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Impact"/>
              </a:rPr>
              <a:t>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956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Impact"/>
              </a:rPr>
              <a:t>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4572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Impact"/>
              </a:rPr>
              <a:t>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6095880"/>
            <a:ext cx="4114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6324480"/>
            <a:ext cx="24382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os verbos </a:t>
            </a:r>
            <a:r>
              <a:rPr b="0" lang="en-US" sz="5400" spc="-1" strike="noStrike">
                <a:solidFill>
                  <a:srgbClr val="666699"/>
                </a:solidFill>
                <a:latin typeface="Garamond"/>
              </a:rPr>
              <a:t>e→i</a:t>
            </a:r>
            <a:endParaRPr b="0" lang="en-US" sz="5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450800"/>
          <a:ext cx="7162920" cy="5406840"/>
        </p:xfrm>
        <a:graphic>
          <a:graphicData uri="http://schemas.openxmlformats.org/drawingml/2006/table">
            <a:tbl>
              <a:tblPr/>
              <a:tblGrid>
                <a:gridCol w="2209680"/>
                <a:gridCol w="495324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P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 P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dimos P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s P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v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vo S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ves S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mos Ser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s S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v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 D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s D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imos De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s D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c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o Son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s Son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onreímos Sonreís Son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o 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s 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eímos Reís R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4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of next Wednesday, we will be checking for PREPAREDNESS. Make sure you hav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 bi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ci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Verbos de cambio radical O</a:t>
            </a:r>
            <a:r>
              <a:rPr b="0" lang="en-US" sz="4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 UE</a:t>
            </a:r>
            <a:br>
              <a:rPr sz="4000"/>
            </a:b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(stem-changing verbs O</a:t>
            </a:r>
            <a:r>
              <a:rPr b="0" i="1" lang="en-US" sz="4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UE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ther set of stem-changing verbs 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return to a pl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be able to 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slee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stem changes to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all forms EXCEP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 The endings remain the same as in regular –ER/-IR verb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609480"/>
          <a:ext cx="8686800" cy="5852880"/>
        </p:xfrm>
        <a:graphic>
          <a:graphicData uri="http://schemas.openxmlformats.org/drawingml/2006/table">
            <a:tbl>
              <a:tblPr/>
              <a:tblGrid>
                <a:gridCol w="3213360"/>
                <a:gridCol w="5473440"/>
              </a:tblGrid>
              <a:tr h="88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                        </a:t>
                      </a: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V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lver        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der      </a:t>
                      </a: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rm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410080" y="6094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6094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505320" y="609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Verbos de cambio radical U</a:t>
            </a:r>
            <a:r>
              <a:rPr b="0" lang="en-US" sz="4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UE</a:t>
            </a:r>
            <a:br>
              <a:rPr sz="4000"/>
            </a:b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(Stem-changing verbs U</a:t>
            </a:r>
            <a:r>
              <a:rPr b="0" i="1" lang="en-US" sz="4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UE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verb J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play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anges to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ll forms EXCEP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endings are the same as the regular –AR verbs. TRY I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0" y="3429000"/>
          <a:ext cx="5410080" cy="3189240"/>
        </p:xfrm>
        <a:graphic>
          <a:graphicData uri="http://schemas.openxmlformats.org/drawingml/2006/table">
            <a:tbl>
              <a:tblPr/>
              <a:tblGrid>
                <a:gridCol w="2913120"/>
                <a:gridCol w="24969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</a:rPr>
                        <a:t>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181480" y="3824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267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48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5272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5729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Jug</a:t>
            </a:r>
            <a:r>
              <a:rPr b="0" i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6110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os verbos que cambian e→i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ns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pez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enz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h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w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thin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begin (star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begin (star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Garamond"/>
              </a:rPr>
              <a:t>Querer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 qu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600200"/>
            <a:ext cx="3633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Quer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the verb “querer” is pronounc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- (“care” in Englis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er (“air” in Engli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er. Care-air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hymes with “Care Bear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Empezar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Comenzar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25160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048120" y="3124080"/>
            <a:ext cx="22100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6 0.04786 L 1.09739 0.05896 E">
                                      <p:cBhvr>
                                        <p:cTn id="121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dcterms:modified xsi:type="dcterms:W3CDTF">2011-09-22T15:41:07Z</dcterms:modified>
  <cp:revision>19</cp:revision>
  <dc:subject/>
  <dc:title>Me llamo __________   Clase 7IM La fecha es el 2 de diciembre del 2010</dc:title>
</cp:coreProperties>
</file>